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194-EF9C-4A91-9D77-9EF54CEC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A7F-C89E-4445-9416-6D0C42C5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C5A-210A-4444-8A3A-DC57F5C3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130-E412-4CCD-AC5E-1983308C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A5B-D085-4374-8F69-966D19B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063-383B-48E9-A856-D7526DF7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1E5-6805-4AE4-BC01-2882818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584-9F2B-486E-81B0-275A5596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A28-1BC2-4D0F-AA22-403D0FEF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3A8-5B0B-4F04-8F08-55FDA7E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6D1-FC50-45C8-96BD-78635C8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33A-ADAD-4979-A7A7-B19BB51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D3C-D81E-483F-9238-C32F206C9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Me llamo _______ </a:t>
            </a: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Clase 8 IM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La fecha es 15 de noviembre del 2011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CAC Futura Casual"/>
              </a:rPr>
              <a:t>Propósito # 14: 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Qué están haciendo Sandra y Anita en el aeropuerto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Copia y responde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Dónde viv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Tienes parientes que viven en otra ciudad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Dónde viven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Visitan ustedes a sus parient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Cómo van a su cas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653080"/>
            <a:ext cx="6629400" cy="52056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Vamos a su casa 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AC Futura Casual"/>
              </a:rPr>
              <a:t>Ejercicio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>
                <a:solidFill>
                  <a:srgbClr val="ffffff"/>
                </a:solidFill>
                <a:latin typeface="CAC Futura Casual"/>
              </a:rPr>
              <a:t>¿Como te va? B (CD-Rom) ppt</a:t>
            </a: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CAC Futura Casual"/>
              </a:rPr>
              <a:t>Copia y completa </a:t>
            </a:r>
            <a:r>
              <a:rPr b="0" lang="es-ES" sz="3400" spc="-1" strike="noStrike" u="sng">
                <a:solidFill>
                  <a:srgbClr val="ffffff"/>
                </a:solidFill>
                <a:uFillTx/>
                <a:latin typeface="CAC Futura Casual"/>
              </a:rPr>
              <a:t>Paso 1: Actividad 3</a:t>
            </a: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CAC Futura Casual"/>
              </a:rPr>
              <a:t>Lee ¿</a:t>
            </a:r>
            <a:r>
              <a:rPr b="0" lang="es-ES" sz="3400" spc="-1" strike="noStrike" u="sng">
                <a:solidFill>
                  <a:srgbClr val="ffffff"/>
                </a:solidFill>
                <a:uFillTx/>
                <a:latin typeface="CAC Futura Casual"/>
              </a:rPr>
              <a:t> Cómo lo digo?</a:t>
            </a: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CAC Futura Casual"/>
              </a:rPr>
              <a:t>Copia y completa </a:t>
            </a:r>
            <a:r>
              <a:rPr b="0" lang="es-ES" sz="3400" spc="-1" strike="noStrike" u="sng">
                <a:solidFill>
                  <a:srgbClr val="ffffff"/>
                </a:solidFill>
                <a:uFillTx/>
                <a:latin typeface="CAC Futura Casual"/>
              </a:rPr>
              <a:t>Paso 1: Actividad 4</a:t>
            </a: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CAC Futura Casual"/>
              </a:rPr>
              <a:t>Copia y completa </a:t>
            </a:r>
            <a:r>
              <a:rPr b="0" lang="es-ES" sz="3400" spc="-1" strike="noStrike" u="sng">
                <a:solidFill>
                  <a:srgbClr val="ffffff"/>
                </a:solidFill>
                <a:uFillTx/>
                <a:latin typeface="CAC Futura Casual"/>
              </a:rPr>
              <a:t>Paso 2: Actividad 5</a:t>
            </a: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Workbook </a:t>
            </a:r>
            <a:r>
              <a:rPr b="0" lang="es-ES" sz="3600" spc="-1" strike="noStrike">
                <a:solidFill>
                  <a:srgbClr val="ffffff"/>
                </a:solidFill>
                <a:latin typeface="CAC Futura Casual"/>
              </a:rPr>
              <a:t>p. 40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9625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AC Futura Casual"/>
              </a:rPr>
              <a:t>Tarea #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1:44:07Z</dcterms:created>
  <dc:creator>Helen Zumaeta</dc:creator>
  <dc:description/>
  <dc:language>en-US</dc:language>
  <cp:lastModifiedBy>Helen Zumaeta</cp:lastModifiedBy>
  <dcterms:modified xsi:type="dcterms:W3CDTF">2011-11-18T21:02:54Z</dcterms:modified>
  <cp:revision>7</cp:revision>
  <dc:subject/>
  <dc:title>Me llamo _______   Clase 8 IM La fecha es 15 de noviembre del 2011</dc:title>
</cp:coreProperties>
</file>